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1CA-9487-477D-BA84-D170B5225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problems and algebraic equations could be created for other agricultural commodities, such as corn, soybeans, or w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lculations also could be taught in an animal science co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9551-6932-4443-AAA6-46294D47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F736-0986-4585-9557-81D153399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A338-BAA3-4B66-8F65-26D9FD7DD6E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4A3CA-AC83-45C6-8D12-9DEA8A2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60AB6-837B-4D0A-9DC4-BA8C8C9D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87CE-EAC6-45C8-AB26-35EF5B0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FB391-38EB-485D-857A-D2A3BF0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4602-83AC-4928-B876-5943A16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86102-DCA4-461A-B2B6-387E594F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89298-B727-4C6D-9B71-F6F306E0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58991-A0FF-45E7-9A36-EBDD8D48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8860F-8667-49EE-A476-3739D5A8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0D4E3-6080-4381-AFFB-F8E9AE9C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1827-8CB9-40C6-A82B-18D038A6F72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A3709-5B2C-4D81-8535-8D646BFE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DD63-CCAE-4E67-A5A3-368EFAE4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2B0E-F612-4611-A6F1-290C43C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C3B98-C971-4C5E-8A37-764BA31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58F2-13C5-403E-ACEB-7FB3FB9A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4B92-DD9A-43A4-9915-3AA5121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B0E7D-742F-4D61-A0C1-ADFCC35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108A-18AD-4E81-891B-2387A97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DE6BF-A666-4972-B1C9-0E9EAE0A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4BAAC-F972-4081-B43F-D9BCFA37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AF8A-1709-430E-B836-1DB3991FBA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1BA4E-BAE6-459C-9030-99A5C76D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CCCEB-6451-499F-ADBE-2B25506F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5B33E-99A5-4B80-837A-E61AFF0C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F9827-8DF3-41E4-8B33-14137DE7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ACB25-DD82-4A95-8BFF-FF95ACF1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687CD-0B5F-4BAB-82A2-549DC9F9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337F-3998-42D6-B088-5C37430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C4166-ED31-440D-93C1-B8A2C57C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2A5D-E659-4F35-B571-CDA8F89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A7797-CA27-4242-811F-96BB85F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471-55CE-425F-A1C3-E9B19CB08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90818-7142-483D-9479-1208EC6D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B6378-3768-4E26-8EE2-C24CA61C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E4773-3A7F-4773-84B9-DD819250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D093B-D6EF-4E9F-82B8-180406C3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9ADEF-5F6F-4056-A363-DAE84F62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5086D-D3E8-41BD-A369-7D19D11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FFA8B-CF22-4E33-B911-5FD0BFF5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57CEF-48DD-4725-A9C7-F189237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52557-3D74-4048-A428-043649D6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2D9B3-AA9C-47C3-B329-E05C956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736-DE00-4E71-ABBB-23DE6C78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322ED-C4DC-41BF-A4CC-D79067DA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B078-D64D-4AD1-8635-EFC28C69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94545-2310-4DDA-B304-0BB58948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F937D-60AE-4A47-AC5A-3CA52D9E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1233D-556B-4EA9-BA8E-EDF8AA68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363-D609-48DB-8468-6D2022D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3AB-D80C-4FCF-A231-9BF4B771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1C1-4C66-44A8-A4E1-A4D1AF73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E04-1843-4963-A2F8-DBE0DF95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EFA-563C-4CBC-95C7-6BE29774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F172-61BC-4A8C-B93C-842A9B990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4D6-6FFB-4EA9-8402-77A5AC2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DFA-33E7-491A-9C85-2FD318C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350-E5C2-452A-85EA-49075021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AB4-7D3B-4B5D-9591-24769FA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E70-FCB8-4D9F-91ED-6E31E7BC0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F281-3B2C-4F7B-AECB-10C983F8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C037-47F6-4ACA-B293-872BC05E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CFB8-5E00-4A9B-9271-9CB7B253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9112-0B36-4843-B272-F5875B6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FBF1-AC7B-4912-B4F1-20C24143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26DD-9652-40F6-A3E3-63BD49AF35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38B2-6F15-43EF-A0A9-B736FFC8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33D-0824-47A8-BADC-7C06843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BD5C-1D1D-4459-9EE6-68E86BC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1B7A-C840-46C8-B0CA-F60BD44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9A0A-E18B-465E-90AE-227BFEAA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68FB-97D9-441C-9CC7-C4A5D3BF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9DD-9AB5-4DFD-A4CB-FE768131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2B86-F31A-4013-A0D9-6C848D3E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82B7-6394-4839-8F39-0578DF7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344E-D557-4360-99B5-16ECFD6D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22F5-B7AA-4088-B28B-1942D20391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ACA0-B9AD-4EEC-BEA7-FC328200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C018-D5A5-44FE-932F-763F1F89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D8F7-7401-429C-A16F-6C295A28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93DC-23FD-4CA9-ADDD-6E34C5D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78D4-A255-4317-9DD6-ADDD3E24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7E54-7E36-4311-B9ED-EC54D656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2B08-04F6-4E88-9894-F990A89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3E8D-CB64-4A27-9643-E4764166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2F49-E18C-4331-8994-E0DB44A9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887D-13A2-45C2-863A-E80D07B3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7E90-0127-46CF-A8F9-3A7136F26D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ADFE-6E3D-4EAE-9EB3-A591F898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EFC2-2722-4F13-9B6A-C5485C2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8BFB-A09B-4A40-B385-6F0CD314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F693-1366-481C-98D1-DB3F0407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9B9D-AA2B-43F6-A28D-4442958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3854-346B-42B7-AB1F-F3A36C6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83CD-E8CD-4DD4-B62E-344D6D4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5709-D912-4333-8054-6DDE7B47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78CEF-2719-436A-9022-A58A102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37B5-FBBE-4EC2-9C47-988C75B0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0D76-67FF-4452-9B03-5FAD627537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F69D-5E8D-4DA7-9314-6335356E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FD53-BB5F-4BDF-A108-240B9AF2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674A3-A457-492B-98FE-7499E0D2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64DB-6C5A-43FE-9858-FCB280AD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71032-3AB4-415F-B406-05C7383A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25C1-1235-4EA5-92BD-C538F3B2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C253-DC43-4D6C-B472-0073D3C5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B737-356E-45A9-BE10-77A5C80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3F578-672B-4423-A1C9-E0F4713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E3FC-05FA-4D5C-A2D2-58F6490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31E8-6A91-4C06-970C-B0C70DF90F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B1B93-E412-4C86-AC9F-95D0C5B8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9D87-64D7-4FD8-BFEE-30903C95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93C0-CA04-482B-BE47-6E9BAEA6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23E0C-12FA-4F9F-A8F0-64F925F3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46DC-132A-4452-898B-6870E100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06F0-8B9B-4FB7-9283-BD3992D0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B8BC3-0870-4DBF-8EDA-282A5C6D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36A5F-F632-4CCE-8C06-64526D77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CDFA-F187-49BB-8007-A23888C5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23CF-3D53-485A-9DF5-C93F1768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E3FA-F3D9-456D-BAA0-27EDDF8550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FA8C3-9185-4AA0-948B-42F5F59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2269-6B70-45B7-B62C-8EC3C58B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3117B-C405-4868-92E2-CA59D56F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05017-07E5-4A78-98B9-38B4AEB6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FCE01-6D28-49AF-A6F4-495444B8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762C0-A0F4-414E-BAFD-022432F2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82D90-8DF6-47F6-BF2F-DDD8A095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D6DF-E65E-404B-AE9A-AB6A2065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05B03-93E5-440E-8228-DBF953D7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B310D-BCA4-417D-A1FF-055FA49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4572-87AD-457E-9286-B15DC9FAD7A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0529-C60B-4B3C-AFB8-61661809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373CC-1080-451A-AAD6-C593958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3BA0-3953-4BE8-A5A8-6EA30E1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498E1-9747-430E-BBDA-F64DD46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060E-E795-4C62-B1FA-9F31AD3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0982-8C20-4829-9D26-832F0E78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E132-32FA-40C1-918B-F88A693E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6F762-3FE5-4D19-B5A8-C2D0741C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FA090-A4A8-4F14-ADA2-E7C6F00B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3E9D-382C-42FD-BB17-88177C5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286-6C98-4911-9573-5B055FB401C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C84-0F3C-4276-8573-533B0AD611C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6BA9-EA2D-473B-BA4B-6AC06BC0419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CD2-86B3-46B8-B79A-74CD7A73720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75F3-75B3-462A-9577-ED83BD5AD6B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B6BD-6EFB-48D1-825B-9463E2C259D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89F-DB7E-4EB7-B3BD-EDBC0F6E6C4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562-23A4-4C40-AF84-B2F878D92D7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8B4E-F13D-457F-B8EB-6C2E338A7D7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8F68-C923-4E60-81E7-21124387B0F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9224-84CD-4437-885E-1B6599C9708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7BF0-FF59-4FE0-A7D7-D57C94DF77A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7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.04 * 524 * 13 + 1.09 * 648 * 17 – 15 (13 + 17) = x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view order of operations: PEMDA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termine what x mean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x is dollar amount rancher receiv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alculate inside of parenthesis first, working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3 + 17 = 30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ubstitute those numbers into the equation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4 * 524 * 13 + 1.09 * 648 * 17 – 15 (30) = 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ultiply, working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4 * 524 * 13 = 7,084.4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9 * 648 * 17 = 12,007.44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5 * 30 = 450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ubstitute those numbers into the equation. 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7,084.48 + 12,007.44 – 450 = 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dd, and then subtract, working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7,084.48 + 12,007.44 – 450 = 18,641.92 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x = 18,641.9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The rancher’s check is $18,641.92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decides to sell his calves. The 55 head of steers average 622 lbs, and 59 heifers average 601 lbs. Both bunches bring $1.11. He wants to average out four head for his son. How much does his son make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The son makes $2, 713.42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4343400" y="1600200"/>
            <a:ext cx="90360" cy="571680"/>
          </a:xfrm>
          <a:custGeom>
            <a:avLst/>
            <a:gdLst>
              <a:gd name="textAreaLeft" fmla="*/ 0 w 90360"/>
              <a:gd name="textAreaRight" fmla="*/ 32760 w 9036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 flipH="1">
            <a:off x="714240" y="1600200"/>
            <a:ext cx="214560" cy="571680"/>
          </a:xfrm>
          <a:custGeom>
            <a:avLst/>
            <a:gdLst>
              <a:gd name="textAreaLeft" fmla="*/ 360 w 214560"/>
              <a:gd name="textAreaRight" fmla="*/ 77760 w 21456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-201600" y="1602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1.11 (55 * 622 + 59 * 6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(55 + 59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*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sells 17 head of calves. They bring $1.03. His check (before charges were subtracted) was $9,928.17. How much did the calves weigh on average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,928.17 = (17 * 1.03)x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x = 567 lbs average weigh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gribusiness Entrepreneurship students apply algebraic equations to livestock market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gribusiness Entrepreneurship—E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use strategies for optimum marketing of agricultural commodities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A.2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use algebraic properties to transform multi-step, single-variable, first-degree equation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Order of operations: When performing algebraic equations, a certain order of mathematical operations should be followed. Use the acronym shown here to remember the order and work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EMDAS (Please Excuse My Dear Aunt Sally)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arenthesis—Exponents—Multiply—Divide—Add—Subtrac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sells 43 head of calves, each weighing an average of 634 lbs. His check (before charges were subtracted) was $28,625. How much did the calves bring per pound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28,625 = (634 * 43)x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x = $1.05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view order of operations: PEMDA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termine what x mean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x is dollar amount per pound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alculate inside of parenthesis firs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634 * 43 = 27,26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ubstitute that number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8,625 = 27,262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ivide on both sides to find X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e3b30"/>
                </a:solidFill>
                <a:uFillTx/>
                <a:latin typeface="Verdana"/>
              </a:rPr>
              <a:t>28,625</a:t>
            </a: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 =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Verdana"/>
              </a:rPr>
              <a:t>27,262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7,262    27,26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5 = 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x = $1.05 per pound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wants to sell two loads of calves. The first bunch of 13 calves averages 524 lbs, and the second bunch of 17 averages 648 pounds. He gets two checks – one for each bunch. The smaller herd brings $1.09 per pound; the larger bunch brings $1.04 per pound. There is $15 per calf deducted for various charges, including commission, beef check-off, vet services, etc. How much does he make total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6:09:56Z</dcterms:modified>
  <cp:revision>19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69236474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 - 2 of 2</vt:lpwstr>
  </property>
</Properties>
</file>